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.png" ContentType="image/png"/>
  <Override PartName="/ppt/media/image2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12.jpeg" ContentType="image/jpe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BB34-3872-41B3-9EDE-78A246D17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FF93-327F-4590-99B2-B78DDF4F6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2078-7DF2-43E8-A6AA-1FDA3C59F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BC11-AD58-4D8A-83E7-DA11BC6C9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5C078-F56C-4504-8AF2-E4BDDBE45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51D25-4CB8-442A-A290-8063DDA63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5E72E-E9AC-4BF4-83AE-BCE9340DD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776A2-2E52-4E7F-844C-23829400B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FFD87-1EBB-49E4-AD61-2969C8B08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BB15E-52A7-4A55-AE01-8012CA963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1B733-F24E-4F00-BE82-A9AFF513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E6C6-67FF-4175-ADB6-7C0078E0F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02354-F219-490A-97A3-B7728215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9CE9F-FE0D-4BDE-ADBB-D8A5C5A6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AE147-C0C6-4EE1-82AC-B0A555698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01FA3-CDE7-4756-B9FA-BF5BB7B62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FD677-65F3-48A7-BF87-90F74FA43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E4170-44EB-4FC5-A666-774EE0F60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6C888-E098-4B5B-8D5E-6E32544A5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A04FA-2E0E-4007-9B10-E00B1A399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7EA0B-9B41-4CDD-B22F-51CC5BE68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9835E-7F41-4C5C-8B87-2561E999D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867E-496B-47E1-B223-6CE51782F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1C7FD-A959-4594-B20D-DDA0590D3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CEB14-9A1F-4230-9BD9-117ECB3E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1E150-2FB5-4D46-812C-477753BE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3B902-C6FA-4525-90F5-F4A1779E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E9FE4-D7B9-4EAD-864A-609A8F9A1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BF933-AFB5-46F5-B4CD-F40B1D893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A8FFF-E286-4741-9AA8-E50ABDB05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87F9D-AD7F-42FE-803E-9D423EE1C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A4109-44C9-4966-8DB8-80A98D76B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4C8CA-8DCA-477A-860A-49E8907A0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5C7B-DFA0-4579-83A5-4F6F4A74A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4289A-C454-49C9-BCBD-6FE24863E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9F75A-AC28-4522-9A6E-C4CEBD4B3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F4AEC-1AEF-478C-A04B-C266C2FBD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6F3CE-E141-47B7-8986-554AEB7D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41ECE-9558-4471-BFBA-7FC239C3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22D44-4892-4EDE-A10C-8DA88CB3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32F0E-5985-49F6-B2F3-3D703479E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FBEC4-19EF-41EE-B480-232E7BC6A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AAC94-3BB0-4977-B777-E80A0DE24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7E4D0-4B87-409E-B425-BD6D8C2F9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2633-1167-4C29-85AA-3DE139C03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1F2B7-6FBA-439B-AD7F-1A7A2392B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EFBD29-A670-42CA-B047-55759542B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D2ADF-B768-4920-B46C-4F2BCE76C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E4C93-B8EF-44E9-997C-C3506E843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4C0A8-0932-42FF-85C3-12952420A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F569A-BDE0-472A-8A15-1E6594D2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73FBE-6502-4ED1-AAA4-E5385FD3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50BB3-F1B4-4741-AA79-F19C2E28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B159D-5312-479C-96DA-683A4D510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98D9F-2E74-42CE-8BBB-AC461EC40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3359-3C22-45DB-AC4F-A99EACE5E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679FF-615D-4400-AA84-80AF3CCE1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E539-26F0-4805-98D2-237C7F05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2B45-37E7-4FD6-BBBF-7DAFCBB1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8E41-A153-4935-BAA1-08F4A648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EA424-1D14-4FE0-9C82-7CAFC4EA98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C69D8-9E01-457E-99E6-A2D29F2FC6A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E3C17-57C0-4857-87BE-B86FD4C65E0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2FC15-FE8A-425A-B849-37B60E9B5A2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ftr" idx="1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E0485-DC96-451A-85CC-FE4BAB4B6F8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371600" y="4876920"/>
            <a:ext cx="609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105520" y="4572000"/>
            <a:ext cx="358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Gigi"/>
              </a:rPr>
              <a:t>Katie’s</a:t>
            </a:r>
            <a:r>
              <a:rPr b="1" lang="en-US" sz="3600" spc="-1" strike="noStrike">
                <a:solidFill>
                  <a:srgbClr val="996600"/>
                </a:solidFill>
                <a:latin typeface="Gigi"/>
              </a:rPr>
              <a:t>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666880" y="1600200"/>
            <a:ext cx="51055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Eras Bold ITC"/>
              </a:rPr>
              <a:t>Our Little Seed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733920" y="228600"/>
            <a:ext cx="4949640" cy="62150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 rot="1582200">
            <a:off x="1752120" y="4952520"/>
            <a:ext cx="1395360" cy="14194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0" y="3076560"/>
            <a:ext cx="2421000" cy="37814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 rot="20967000">
            <a:off x="228240" y="1219320"/>
            <a:ext cx="3886200" cy="88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Goudy Stout"/>
              </a:rPr>
              <a:t>The Seed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Goudy Stout"/>
              <a:ea typeface="Goudy Stou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228600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371600" y="228600"/>
            <a:ext cx="7543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Forte"/>
              </a:rPr>
              <a:t>One day, our Science class had a </a:t>
            </a:r>
            <a:r>
              <a:rPr b="1" lang="en-US" sz="4000" spc="-1" strike="noStrike">
                <a:solidFill>
                  <a:srgbClr val="cc6600"/>
                </a:solidFill>
                <a:latin typeface="Forte"/>
              </a:rPr>
              <a:t>SEED WALK</a:t>
            </a:r>
            <a:r>
              <a:rPr b="1" lang="en-US" sz="4000" spc="-1" strike="noStrike">
                <a:solidFill>
                  <a:srgbClr val="993300"/>
                </a:solidFill>
                <a:latin typeface="Forte"/>
              </a:rPr>
              <a:t> – a tour around the campus to look for seeds.</a:t>
            </a:r>
            <a:r>
              <a:rPr b="1" lang="en-US" sz="4000" spc="-1" strike="noStrike">
                <a:solidFill>
                  <a:srgbClr val="000000"/>
                </a:solidFill>
                <a:latin typeface="Forte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733920" y="3657600"/>
            <a:ext cx="541008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Forte"/>
              </a:rPr>
              <a:t>We observed the </a:t>
            </a:r>
            <a:r>
              <a:rPr b="1" lang="en-US" sz="4000" spc="-1" strike="noStrike">
                <a:solidFill>
                  <a:srgbClr val="663300"/>
                </a:solidFill>
                <a:latin typeface="Forte"/>
              </a:rPr>
              <a:t>diversity of plant life</a:t>
            </a:r>
            <a:r>
              <a:rPr b="1" lang="en-US" sz="4000" spc="-1" strike="noStrike">
                <a:solidFill>
                  <a:srgbClr val="996633"/>
                </a:solidFill>
                <a:latin typeface="Forte"/>
              </a:rPr>
              <a:t> and the </a:t>
            </a:r>
            <a:r>
              <a:rPr b="1" lang="en-US" sz="4000" spc="-1" strike="noStrike">
                <a:solidFill>
                  <a:srgbClr val="663300"/>
                </a:solidFill>
                <a:latin typeface="Forte"/>
              </a:rPr>
              <a:t>ecosystem</a:t>
            </a:r>
            <a:r>
              <a:rPr b="1" lang="en-US" sz="4000" spc="-1" strike="noStrike">
                <a:solidFill>
                  <a:srgbClr val="996633"/>
                </a:solidFill>
                <a:latin typeface="Forte"/>
              </a:rPr>
              <a:t> as a who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-57240"/>
            <a:ext cx="9220320" cy="69152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5105520" y="4114800"/>
            <a:ext cx="3733560" cy="2057400"/>
          </a:xfrm>
          <a:prstGeom prst="cloudCallout">
            <a:avLst>
              <a:gd name="adj1" fmla="val -70111"/>
              <a:gd name="adj2" fmla="val -63115"/>
            </a:avLst>
          </a:prstGeom>
          <a:solidFill>
            <a:srgbClr val="ccffcc">
              <a:alpha val="7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334120" y="48006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 Black"/>
              </a:rPr>
              <a:t>This is Julie during the Seed Walk </a:t>
            </a:r>
            <a:r>
              <a:rPr b="0" lang="en-US" sz="2400" spc="-1" strike="noStrike">
                <a:solidFill>
                  <a:srgbClr val="6633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6336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0" y="0"/>
            <a:ext cx="4495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Arial Black"/>
              </a:rPr>
              <a:t>Water</a:t>
            </a:r>
            <a:r>
              <a:rPr b="1" lang="en-US" sz="2800" spc="-1" strike="noStrike">
                <a:solidFill>
                  <a:srgbClr val="800080"/>
                </a:solidFill>
                <a:latin typeface="Arial Black"/>
              </a:rPr>
              <a:t> is the </a:t>
            </a:r>
            <a:r>
              <a:rPr b="1" i="1" lang="en-US" sz="2800" spc="-1" strike="noStrike">
                <a:solidFill>
                  <a:srgbClr val="800080"/>
                </a:solidFill>
                <a:latin typeface="Arial Black"/>
              </a:rPr>
              <a:t>manipulated variable</a:t>
            </a:r>
            <a:r>
              <a:rPr b="1" lang="en-US" sz="2800" spc="-1" strike="noStrike">
                <a:solidFill>
                  <a:srgbClr val="800080"/>
                </a:solidFill>
                <a:latin typeface="Arial Black"/>
              </a:rPr>
              <a:t> in this experi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0" y="380880"/>
            <a:ext cx="2057400" cy="1447920"/>
          </a:xfrm>
          <a:prstGeom prst="cloudCallout">
            <a:avLst>
              <a:gd name="adj1" fmla="val -65893"/>
              <a:gd name="adj2" fmla="val 68421"/>
            </a:avLst>
          </a:prstGeom>
          <a:solidFill>
            <a:srgbClr val="ffcc99">
              <a:alpha val="69000"/>
            </a:srgbClr>
          </a:solidFill>
          <a:ln w="158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 Black"/>
              </a:rPr>
              <a:t>This is John! </a:t>
            </a:r>
            <a:r>
              <a:rPr b="0" lang="en-US" sz="2400" spc="-1" strike="noStrike">
                <a:solidFill>
                  <a:srgbClr val="6633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600200" y="533520"/>
            <a:ext cx="297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371600" y="380880"/>
            <a:ext cx="716292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507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ffff99"/>
                    </a:gs>
                  </a:gsLst>
                  <a:lin ang="13500000"/>
                </a:gradFill>
                <a:latin typeface="Gill Sans Ultra Bold"/>
              </a:rPr>
              <a:t>Result of our Experiment</a:t>
            </a:r>
            <a:endParaRPr b="0" lang="en-US" sz="4000" spc="1" strike="noStrike">
              <a:ln w="507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ffff99"/>
                  </a:gs>
                </a:gsLst>
                <a:lin ang="13500000"/>
              </a:gradFill>
              <a:latin typeface="Gill Sans Ultra Bold"/>
              <a:ea typeface="Gill Sans Ultra Bold"/>
            </a:endParaRPr>
          </a:p>
        </p:txBody>
      </p:sp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3229200" cy="396216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28600" y="304920"/>
            <a:ext cx="8686800" cy="6248160"/>
          </a:xfrm>
          <a:prstGeom prst="rect">
            <a:avLst/>
          </a:prstGeom>
          <a:noFill/>
          <a:ln w="95400">
            <a:solidFill>
              <a:srgbClr val="80008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203480" y="73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048120" y="457200"/>
            <a:ext cx="5790960" cy="69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Gigi"/>
              </a:rPr>
              <a:t>Today we finished our experiment. At long las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Gigi"/>
              </a:rPr>
              <a:t>I can’t believe seeds can grow into huge plants! Our group had so much fun as much as we did during the seed wal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Gigi"/>
              </a:rPr>
              <a:t>I look forward to more fun activities in Scienc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Gigi"/>
              </a:rPr>
              <a:t> </a:t>
            </a:r>
            <a:r>
              <a:rPr b="1" lang="en-US" sz="2800" spc="-1" strike="noStrike">
                <a:solidFill>
                  <a:srgbClr val="660033"/>
                </a:solidFill>
                <a:latin typeface="Goudy Stout"/>
              </a:rPr>
              <a:t>-Jason </a:t>
            </a:r>
            <a:r>
              <a:rPr b="1" lang="en-US" sz="2800" spc="-1" strike="noStrike">
                <a:solidFill>
                  <a:srgbClr val="660033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33520" y="304920"/>
            <a:ext cx="2895480" cy="22003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5334120" y="533520"/>
            <a:ext cx="3476520" cy="33573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1905120" y="2438280"/>
            <a:ext cx="2854080" cy="34099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 rot="1966800">
            <a:off x="685800" y="2971440"/>
            <a:ext cx="838080" cy="838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rot="18789600">
            <a:off x="5181480" y="4647960"/>
            <a:ext cx="838080" cy="838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324480" y="502920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y: Jessica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676520" y="6156360"/>
            <a:ext cx="464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urier New"/>
              </a:rPr>
              <a:t>Journal Entry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144000" cy="68421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23:43:08Z</dcterms:created>
  <dc:creator>nave1386</dc:creator>
  <dc:description/>
  <dc:language>en-US</dc:language>
  <cp:lastModifiedBy>nave1386</cp:lastModifiedBy>
  <dcterms:modified xsi:type="dcterms:W3CDTF">2010-09-22T23:55:36Z</dcterms:modified>
  <cp:revision>13</cp:revision>
  <dc:subject/>
  <dc:title>Slide 1</dc:title>
</cp:coreProperties>
</file>